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37.png" ContentType="image/png"/>
  <Override PartName="/ppt/media/image40.png" ContentType="image/png"/>
  <Override PartName="/ppt/media/image11.jpeg" ContentType="image/jpe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2D2-B8AC-4097-AF7F-D140CEE2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F09-B248-47E0-9D1D-9B63508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78F-A121-421D-8AB1-F617CB56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285-3FE0-4D1F-8612-5E2A7E01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592-7DDC-453B-99AE-E9731BB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F35-FE73-44D8-98EA-076CBAC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6E-91C4-4440-BFF9-A4905A0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F59-2C22-4CA0-BB4A-BE609A7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034-029E-4847-A1A9-0A24E0E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CE8-71E3-4548-B2AC-47360D7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CB1-34E5-4F86-BDCC-2359E70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317-4ACB-4EB3-A461-A4028A3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14C-9272-4F10-B767-32699D8ECBA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285840" y="2071800"/>
            <a:ext cx="7358040" cy="4362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5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6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7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de la movilización de 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Triglicéridos en Ani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5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7 CuadroTexto"/>
          <p:cNvSpPr/>
          <p:nvPr/>
        </p:nvSpPr>
        <p:spPr>
          <a:xfrm>
            <a:off x="1571760" y="2000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Calibri"/>
              </a:rPr>
              <a:t>ADIP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tructura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beza polar (fosfato + alcoho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la hidrófoba (ácidos gra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Esqueleto Básic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 Glicerol ó Esfing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Acido fosfat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779640" y="3284640"/>
            <a:ext cx="936360" cy="72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Esfing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7164360" y="3357720"/>
            <a:ext cx="432000" cy="6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71720" y="0"/>
            <a:ext cx="7072200" cy="1252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Bio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vertebrado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RE liso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31640" y="1243080"/>
            <a:ext cx="7473960" cy="4900680"/>
          </a:xfrm>
          <a:prstGeom prst="rect">
            <a:avLst/>
          </a:prstGeom>
          <a:ln w="0">
            <a:noFill/>
          </a:ln>
        </p:spPr>
      </p:pic>
      <p:sp>
        <p:nvSpPr>
          <p:cNvPr id="184" name="2 CuadroTexto"/>
          <p:cNvSpPr/>
          <p:nvPr/>
        </p:nvSpPr>
        <p:spPr>
          <a:xfrm>
            <a:off x="1669320" y="78588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801bf"/>
                </a:solidFill>
                <a:latin typeface="Arial"/>
              </a:rPr>
              <a:t>FOSFOLÍPIDOS -  principales grupos de cabeza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Glicero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etanolam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co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ser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inosit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gli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rdiolip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sp8431"/>
          <p:cNvPicPr/>
          <p:nvPr/>
        </p:nvPicPr>
        <p:blipFill>
          <a:blip r:embed="rId1"/>
          <a:srcRect l="77517" t="0" r="0" b="47312"/>
          <a:stretch/>
        </p:blipFill>
        <p:spPr>
          <a:xfrm>
            <a:off x="4788000" y="3500280"/>
            <a:ext cx="1944720" cy="1516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4643280" y="2781360"/>
            <a:ext cx="2449440" cy="822960"/>
            <a:chOff x="4643280" y="2781360"/>
            <a:chExt cx="2449440" cy="822960"/>
          </a:xfrm>
        </p:grpSpPr>
        <p:sp>
          <p:nvSpPr>
            <p:cNvPr id="191" name="Text Box 8"/>
            <p:cNvSpPr/>
            <p:nvPr/>
          </p:nvSpPr>
          <p:spPr>
            <a:xfrm>
              <a:off x="4643280" y="2781360"/>
              <a:ext cx="244944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-CH-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-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5651280" y="3070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140360" y="4869000"/>
            <a:ext cx="2952720" cy="822960"/>
            <a:chOff x="4140360" y="4869000"/>
            <a:chExt cx="2952720" cy="822960"/>
          </a:xfrm>
        </p:grpSpPr>
        <p:sp>
          <p:nvSpPr>
            <p:cNvPr id="194" name="Text Box 11"/>
            <p:cNvSpPr/>
            <p:nvPr/>
          </p:nvSpPr>
          <p:spPr>
            <a:xfrm>
              <a:off x="4140360" y="4869000"/>
              <a:ext cx="295272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-CH—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5507280" y="51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13" descr="sp6641"/>
          <p:cNvPicPr/>
          <p:nvPr/>
        </p:nvPicPr>
        <p:blipFill>
          <a:blip r:embed="rId2"/>
          <a:srcRect l="75238" t="0" r="0" b="24453"/>
          <a:stretch/>
        </p:blipFill>
        <p:spPr>
          <a:xfrm>
            <a:off x="539640" y="393372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3203640" y="6093000"/>
            <a:ext cx="27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fosfatidilgli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Glicerofosfolípido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2 estrategias diferen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00000"/>
                </a:solidFill>
                <a:uFillTx/>
                <a:latin typeface="Calibri"/>
              </a:rPr>
              <a:t>Activación del esqueleto hidrófo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00000"/>
                </a:solidFill>
                <a:uFillTx/>
                <a:latin typeface="Calibri"/>
              </a:rPr>
              <a:t>Activación de la cabeza po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ido fosfatídico +  CTP    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714840" y="371484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 rot="20962200">
            <a:off x="3750120" y="2666880"/>
            <a:ext cx="280836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Calibri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204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342900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Fosfolípidos</a:t>
            </a:r>
            <a:br>
              <a:rPr sz="3200"/>
            </a:b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Esquema de interr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3520" y="198108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315200" y="1828800"/>
            <a:ext cx="8380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3520" y="281952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91120" y="1752480"/>
            <a:ext cx="14475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licerol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934320" y="2666880"/>
            <a:ext cx="20574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tros Fosfo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038480" y="2514600"/>
            <a:ext cx="1752840" cy="642600"/>
          </a:xfrm>
          <a:prstGeom prst="rect">
            <a:avLst/>
          </a:prstGeom>
          <a:solidFill>
            <a:srgbClr val="f9fda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IDO FOSFATI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038480" y="3505320"/>
            <a:ext cx="20574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DP-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7086600" y="3429000"/>
            <a:ext cx="182880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inos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267080" y="4495680"/>
            <a:ext cx="17528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629400" y="4648320"/>
            <a:ext cx="190512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4038480" y="5257800"/>
            <a:ext cx="23623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4419720" y="6095880"/>
            <a:ext cx="17524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76320" y="5257800"/>
            <a:ext cx="16002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80880" y="6100920"/>
            <a:ext cx="99072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6781680" y="5562720"/>
            <a:ext cx="14479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dioli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28195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182880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3520" y="129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70866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4038480" y="1066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 Y PRO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144792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312408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243828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45720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3276720" y="58053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D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0958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G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74320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ff"/>
                </a:solidFill>
                <a:latin typeface="Calibri"/>
              </a:rPr>
              <a:t>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5029200" y="2133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2 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4191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S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095880" y="3200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Inosi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752480" y="54864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4"/>
          <p:cNvSpPr/>
          <p:nvPr/>
        </p:nvSpPr>
        <p:spPr>
          <a:xfrm>
            <a:off x="3048120" y="54864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>
            <a:off x="24382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7"/>
          <p:cNvSpPr/>
          <p:nvPr/>
        </p:nvSpPr>
        <p:spPr>
          <a:xfrm>
            <a:off x="3505320" y="64008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5334120" y="5715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>
            <a:off x="2286000" y="2209680"/>
            <a:ext cx="152388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0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1"/>
          <p:cNvSpPr/>
          <p:nvPr/>
        </p:nvSpPr>
        <p:spPr>
          <a:xfrm>
            <a:off x="7391520" y="51055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2286000" y="2742840"/>
            <a:ext cx="1600200" cy="3049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3"/>
          <p:cNvSpPr/>
          <p:nvPr/>
        </p:nvSpPr>
        <p:spPr>
          <a:xfrm>
            <a:off x="518148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4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6"/>
          <p:cNvSpPr/>
          <p:nvPr/>
        </p:nvSpPr>
        <p:spPr>
          <a:xfrm flipH="1">
            <a:off x="5943600" y="2286000"/>
            <a:ext cx="137160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5638680" y="3962520"/>
            <a:ext cx="12193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8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9"/>
          <p:cNvSpPr/>
          <p:nvPr/>
        </p:nvSpPr>
        <p:spPr>
          <a:xfrm>
            <a:off x="6248520" y="358128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http://laguiadelasvitaminas.com/wp-content/uploads/2014/03/Alimentos-ricos-en-colesterol.jpg"/>
          <p:cNvPicPr/>
          <p:nvPr/>
        </p:nvPicPr>
        <p:blipFill>
          <a:blip r:embed="rId1"/>
          <a:stretch/>
        </p:blipFill>
        <p:spPr>
          <a:xfrm>
            <a:off x="792000" y="3971880"/>
            <a:ext cx="3637080" cy="2457360"/>
          </a:xfrm>
          <a:prstGeom prst="rect">
            <a:avLst/>
          </a:prstGeom>
          <a:ln w="0">
            <a:noFill/>
          </a:ln>
        </p:spPr>
      </p:pic>
      <p:sp>
        <p:nvSpPr>
          <p:cNvPr id="259" name="5 CuadroTexto"/>
          <p:cNvSpPr/>
          <p:nvPr/>
        </p:nvSpPr>
        <p:spPr>
          <a:xfrm>
            <a:off x="500040" y="642960"/>
            <a:ext cx="828684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Text Box 11" descr=""/>
          <p:cNvPicPr/>
          <p:nvPr/>
        </p:nvPicPr>
        <p:blipFill>
          <a:blip r:embed="rId2"/>
          <a:stretch/>
        </p:blipFill>
        <p:spPr>
          <a:xfrm>
            <a:off x="328680" y="1378080"/>
            <a:ext cx="8772480" cy="347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fi19p17"/>
          <p:cNvPicPr/>
          <p:nvPr/>
        </p:nvPicPr>
        <p:blipFill>
          <a:blip r:embed="rId3"/>
          <a:srcRect l="7480" t="26347" r="6693" b="35523"/>
          <a:stretch/>
        </p:blipFill>
        <p:spPr>
          <a:xfrm>
            <a:off x="5000760" y="5114880"/>
            <a:ext cx="2958840" cy="1743120"/>
          </a:xfrm>
          <a:prstGeom prst="rect">
            <a:avLst/>
          </a:prstGeom>
          <a:ln w="0">
            <a:noFill/>
          </a:ln>
        </p:spPr>
      </p:pic>
      <p:sp>
        <p:nvSpPr>
          <p:cNvPr id="262" name="10 CuadroTexto"/>
          <p:cNvSpPr/>
          <p:nvPr/>
        </p:nvSpPr>
        <p:spPr>
          <a:xfrm>
            <a:off x="5857920" y="65721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ttp://www.cientic.com/imagens/qi/heterotrofia/heterotrofia_04.png"/>
          <p:cNvPicPr/>
          <p:nvPr/>
        </p:nvPicPr>
        <p:blipFill>
          <a:blip r:embed="rId1"/>
          <a:stretch/>
        </p:blipFill>
        <p:spPr>
          <a:xfrm>
            <a:off x="0" y="2786040"/>
            <a:ext cx="6375240" cy="435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s://encrypted-tbn1.gstatic.com/images?q=tbn:ANd9GcT676jW9v0oYR4mfAxb8q4tKfBEqcWjc24eZLPrwxCuWJgDs33k"/>
          <p:cNvPicPr/>
          <p:nvPr/>
        </p:nvPicPr>
        <p:blipFill>
          <a:blip r:embed="rId2"/>
          <a:stretch/>
        </p:blipFill>
        <p:spPr>
          <a:xfrm>
            <a:off x="6551640" y="3798720"/>
            <a:ext cx="2179440" cy="2559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http://html.rincondelvago.com/000250193.jpg"/>
          <p:cNvPicPr/>
          <p:nvPr/>
        </p:nvPicPr>
        <p:blipFill>
          <a:blip r:embed="rId3"/>
          <a:stretch/>
        </p:blipFill>
        <p:spPr>
          <a:xfrm>
            <a:off x="2428920" y="571680"/>
            <a:ext cx="3422520" cy="2228760"/>
          </a:xfrm>
          <a:prstGeom prst="rect">
            <a:avLst/>
          </a:prstGeom>
          <a:ln w="0">
            <a:noFill/>
          </a:ln>
        </p:spPr>
      </p:pic>
      <p:sp>
        <p:nvSpPr>
          <p:cNvPr id="266" name="7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785880"/>
            <a:ext cx="292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Constituy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de las membranas biológ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relación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la fl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http://html.rincondelvago.com/000250194.jpg"/>
          <p:cNvPicPr/>
          <p:nvPr/>
        </p:nvPicPr>
        <p:blipFill>
          <a:blip r:embed="rId4"/>
          <a:stretch/>
        </p:blipFill>
        <p:spPr>
          <a:xfrm>
            <a:off x="5597640" y="500040"/>
            <a:ext cx="3546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279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282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COLESTEROL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structura química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071720" y="435132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4"/>
          <p:cNvGrpSpPr/>
          <p:nvPr/>
        </p:nvGrpSpPr>
        <p:grpSpPr>
          <a:xfrm>
            <a:off x="250920" y="1546200"/>
            <a:ext cx="3528720" cy="2311200"/>
            <a:chOff x="250920" y="1546200"/>
            <a:chExt cx="3528720" cy="2311200"/>
          </a:xfrm>
        </p:grpSpPr>
        <p:pic>
          <p:nvPicPr>
            <p:cNvPr id="286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620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250920" y="352008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4430880" y="1542960"/>
            <a:ext cx="4386240" cy="2814840"/>
            <a:chOff x="4430880" y="1542960"/>
            <a:chExt cx="4386240" cy="2814840"/>
          </a:xfrm>
        </p:grpSpPr>
        <p:pic>
          <p:nvPicPr>
            <p:cNvPr id="289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5429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867280" y="39178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9 CuadroTexto"/>
          <p:cNvSpPr/>
          <p:nvPr/>
        </p:nvSpPr>
        <p:spPr>
          <a:xfrm>
            <a:off x="6730560" y="85716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61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63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CuadroTexto"/>
          <p:cNvSpPr/>
          <p:nvPr/>
        </p:nvSpPr>
        <p:spPr>
          <a:xfrm>
            <a:off x="207180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_x0010_Fig 21-30.GIF060                                               0000691B_x0013_Sumanas' Hard Drive            B4EBCDA7:"/>
          <p:cNvPicPr/>
          <p:nvPr/>
        </p:nvPicPr>
        <p:blipFill>
          <a:blip r:embed="rId1"/>
          <a:stretch/>
        </p:blipFill>
        <p:spPr>
          <a:xfrm>
            <a:off x="1428840" y="214308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294" name="4 CuadroTexto"/>
          <p:cNvSpPr/>
          <p:nvPr/>
        </p:nvSpPr>
        <p:spPr>
          <a:xfrm>
            <a:off x="600084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572080" y="422604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s C negros derivan del grupo metilo del 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alibri"/>
              </a:rPr>
              <a:t>Los C rojos derivan del carboxilo del 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CuadroTexto"/>
          <p:cNvSpPr/>
          <p:nvPr/>
        </p:nvSpPr>
        <p:spPr>
          <a:xfrm>
            <a:off x="4500720" y="9288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Origen de los áto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 C del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CuadroTexto"/>
          <p:cNvSpPr/>
          <p:nvPr/>
        </p:nvSpPr>
        <p:spPr>
          <a:xfrm>
            <a:off x="1507320" y="2714760"/>
            <a:ext cx="1442520" cy="76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(Acetil-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CuadroTexto"/>
          <p:cNvSpPr/>
          <p:nvPr/>
        </p:nvSpPr>
        <p:spPr>
          <a:xfrm>
            <a:off x="3779280" y="5324400"/>
            <a:ext cx="16711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974520" y="12142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27 átomos de C provie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 un único 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0 Llamada con línea 3"/>
          <p:cNvSpPr/>
          <p:nvPr/>
        </p:nvSpPr>
        <p:spPr>
          <a:xfrm>
            <a:off x="714240" y="1214280"/>
            <a:ext cx="36435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91" y="3591"/>
                </a:moveTo>
                <a:lnTo>
                  <a:pt x="-3519" y="3591"/>
                </a:lnTo>
                <a:lnTo>
                  <a:pt x="-3600" y="21600"/>
                </a:lnTo>
                <a:lnTo>
                  <a:pt x="4767" y="4333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2 CuadroTexto"/>
          <p:cNvSpPr/>
          <p:nvPr/>
        </p:nvSpPr>
        <p:spPr>
          <a:xfrm>
            <a:off x="285840" y="857160"/>
            <a:ext cx="8501040" cy="563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Todos los átomos de carbono del colesterol provienen d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grupo acetilo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de un Ac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Las enzimas que participan son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citoplasmáticas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con la excepción de una (</a:t>
            </a:r>
            <a:r>
              <a:rPr b="1" i="1" lang="es-PE" sz="2800" spc="-1" strike="noStrike">
                <a:solidFill>
                  <a:srgbClr val="000000"/>
                </a:solidFill>
                <a:latin typeface="Calibri"/>
              </a:rPr>
              <a:t>escualeno oxidasa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) que es microsomal (Retículo endoplásm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El agente reductor en las reacciones de biosíntesis es 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- Los tejidos más activos en esta síntesis son: hígado, intestino, corteza suprarrenal, gónadas, músculo, piel y tejido adi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Etapas genera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Formación de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Hidroximetil glutaril-CoA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(HMG-CoA) a partir de Acetil-CoA (6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Conversiòn de HMG-CoA en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Escuale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(30 carbon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Conversión de Escualeno en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a través de 20 reacciones (27 carbon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51894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5286240" y="142920"/>
            <a:ext cx="295272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ondensación de acetatos (Acetil-CoA) para formar  Mevalon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a través de HMG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5405400" y="1285920"/>
            <a:ext cx="29527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onversión de Mevalonato en unidades de Isopreno activado (I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477040" y="3354480"/>
            <a:ext cx="30240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olimerización de las unidades de Isopreno para dar lugar al Escual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715000" y="5711760"/>
            <a:ext cx="201780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iclac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 del Escualeno a Lanosterol y conversión a Coleste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 rot="16200000">
            <a:off x="-3127680" y="3229560"/>
            <a:ext cx="6858000" cy="398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IOSÍNTESIS DE COLESTEROL (fases princip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8 CuadroTexto"/>
          <p:cNvSpPr/>
          <p:nvPr/>
        </p:nvSpPr>
        <p:spPr>
          <a:xfrm>
            <a:off x="571680" y="642960"/>
            <a:ext cx="928440" cy="45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9 CuadroTexto"/>
          <p:cNvSpPr/>
          <p:nvPr/>
        </p:nvSpPr>
        <p:spPr>
          <a:xfrm>
            <a:off x="571680" y="2395440"/>
            <a:ext cx="92844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571680" y="4896000"/>
            <a:ext cx="928440" cy="459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13840" y="714240"/>
            <a:ext cx="8572680" cy="614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etapas en la ruta de biosíntesis de colesterol que se pueden agrupar en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 Estad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rmación de </a:t>
            </a:r>
            <a:r>
              <a:rPr b="1" lang="es-AR" sz="2800" spc="-1" strike="noStrike">
                <a:solidFill>
                  <a:srgbClr val="0000cc"/>
                </a:solidFill>
                <a:latin typeface="Calibri"/>
              </a:rPr>
              <a:t>Hidroximetil glutaril-CoA (HMG-CoA)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    partir de Acetil-CoA (6 Carbo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ducción de HMG-CoA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Acido Mevalónico (Mevalonato) </a:t>
            </a: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(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sforilación y descarboxilación de Mevalonato para 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dar 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 : Acetatos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               I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6 Conector recto de flecha"/>
          <p:cNvCxnSpPr/>
          <p:nvPr/>
        </p:nvCxnSpPr>
        <p:spPr>
          <a:xfrm>
            <a:off x="3643200" y="621504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714240" y="1571760"/>
            <a:ext cx="5143320" cy="1224000"/>
            <a:chOff x="714240" y="1571760"/>
            <a:chExt cx="5143320" cy="1224000"/>
          </a:xfrm>
        </p:grpSpPr>
        <p:sp>
          <p:nvSpPr>
            <p:cNvPr id="319" name="Text Box 4"/>
            <p:cNvSpPr/>
            <p:nvPr/>
          </p:nvSpPr>
          <p:spPr>
            <a:xfrm>
              <a:off x="714240" y="177336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"/>
            <p:cNvSpPr/>
            <p:nvPr/>
          </p:nvSpPr>
          <p:spPr>
            <a:xfrm>
              <a:off x="2427120" y="1571760"/>
              <a:ext cx="600840" cy="1224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3050280" y="1857600"/>
              <a:ext cx="28072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2 Acetil-Co  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Ti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"/>
          <p:cNvGrpSpPr/>
          <p:nvPr/>
        </p:nvGrpSpPr>
        <p:grpSpPr>
          <a:xfrm>
            <a:off x="4786200" y="1571760"/>
            <a:ext cx="4071600" cy="745200"/>
            <a:chOff x="4786200" y="1571760"/>
            <a:chExt cx="4071600" cy="745200"/>
          </a:xfrm>
        </p:grpSpPr>
        <p:sp>
          <p:nvSpPr>
            <p:cNvPr id="323" name="Text Box 8"/>
            <p:cNvSpPr/>
            <p:nvPr/>
          </p:nvSpPr>
          <p:spPr>
            <a:xfrm>
              <a:off x="6144120" y="1857240"/>
              <a:ext cx="27136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</a:t>
              </a:r>
              <a:r>
                <a:rPr b="1" lang="es-ES" sz="1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9"/>
            <p:cNvSpPr/>
            <p:nvPr/>
          </p:nvSpPr>
          <p:spPr>
            <a:xfrm>
              <a:off x="4786200" y="1571760"/>
              <a:ext cx="1571760" cy="357120"/>
            </a:xfrm>
            <a:custGeom>
              <a:avLst/>
              <a:gdLst>
                <a:gd name="textAreaLeft" fmla="*/ 318600 w 1571760"/>
                <a:gd name="textAreaRight" fmla="*/ 1193760 w 1571760"/>
                <a:gd name="textAreaTop" fmla="*/ 47880 h 357120"/>
                <a:gd name="textAreaBottom" fmla="*/ 30924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60" hR="21600" stAng="10800000" swAng="5400000"/>
                  <a:lnTo>
                    <a:pt x="12027" y="0"/>
                  </a:lnTo>
                  <a:arcTo wR="8760" hR="21600" stAng="-5400000" swAng="2935036"/>
                  <a:lnTo>
                    <a:pt x="21099" y="14400"/>
                  </a:lnTo>
                  <a:lnTo>
                    <a:pt x="19153" y="21600"/>
                  </a:lnTo>
                  <a:lnTo>
                    <a:pt x="16204" y="14400"/>
                  </a:lnTo>
                  <a:lnTo>
                    <a:pt x="17018" y="14400"/>
                  </a:lnTo>
                  <a:arcTo wR="8760" hR="21600" stAng="-2464964" swAng="-2670935"/>
                  <a:lnTo>
                    <a:pt x="10393" y="379"/>
                  </a:lnTo>
                  <a:arcTo wR="8760" hR="21600" stAng="-5664101" swAng="-5135899"/>
                  <a:close/>
                </a:path>
                <a:path fill="darkenLess" w="21600" h="21600">
                  <a:moveTo>
                    <a:pt x="0" y="21600"/>
                  </a:moveTo>
                  <a:arcTo wR="8760" hR="21600" stAng="10800000" swAng="5400000"/>
                  <a:lnTo>
                    <a:pt x="8760" y="0"/>
                  </a:lnTo>
                  <a:arcTo wR="8760" hR="21600" stAng="-5400000" swAng="264101"/>
                  <a:lnTo>
                    <a:pt x="10393" y="379"/>
                  </a:lnTo>
                  <a:arcTo wR="8760" hR="21600" stAng="-5664101" swAng="-51358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539640" y="3044880"/>
            <a:ext cx="8175600" cy="1275480"/>
            <a:chOff x="539640" y="3044880"/>
            <a:chExt cx="8175600" cy="1275480"/>
          </a:xfrm>
        </p:grpSpPr>
        <p:pic>
          <p:nvPicPr>
            <p:cNvPr id="326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CoA </a:t>
              </a: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(4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6500880" y="3860640"/>
              <a:ext cx="22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HMG-CoA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331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8"/>
          <p:cNvGrpSpPr/>
          <p:nvPr/>
        </p:nvGrpSpPr>
        <p:grpSpPr>
          <a:xfrm>
            <a:off x="4643280" y="4292640"/>
            <a:ext cx="4143240" cy="1008000"/>
            <a:chOff x="4643280" y="4292640"/>
            <a:chExt cx="4143240" cy="1008000"/>
          </a:xfrm>
        </p:grpSpPr>
        <p:sp>
          <p:nvSpPr>
            <p:cNvPr id="334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0"/>
            <p:cNvSpPr/>
            <p:nvPr/>
          </p:nvSpPr>
          <p:spPr>
            <a:xfrm>
              <a:off x="6443640" y="4508640"/>
              <a:ext cx="234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HMG-CoA reductasa (RE li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2"/>
          <p:cNvGrpSpPr/>
          <p:nvPr/>
        </p:nvGrpSpPr>
        <p:grpSpPr>
          <a:xfrm>
            <a:off x="3995640" y="4653000"/>
            <a:ext cx="5148360" cy="1972440"/>
            <a:chOff x="3995640" y="4653000"/>
            <a:chExt cx="5148360" cy="1972440"/>
          </a:xfrm>
        </p:grpSpPr>
        <p:pic>
          <p:nvPicPr>
            <p:cNvPr id="338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4"/>
            <p:cNvSpPr/>
            <p:nvPr/>
          </p:nvSpPr>
          <p:spPr>
            <a:xfrm>
              <a:off x="6659640" y="61657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Mevalonato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7"/>
          <p:cNvGrpSpPr/>
          <p:nvPr/>
        </p:nvGrpSpPr>
        <p:grpSpPr>
          <a:xfrm>
            <a:off x="2771640" y="2924280"/>
            <a:ext cx="1657440" cy="1616400"/>
            <a:chOff x="2771640" y="2924280"/>
            <a:chExt cx="1657440" cy="1616400"/>
          </a:xfrm>
        </p:grpSpPr>
        <p:sp>
          <p:nvSpPr>
            <p:cNvPr id="343" name="Text Box 28"/>
            <p:cNvSpPr/>
            <p:nvPr/>
          </p:nvSpPr>
          <p:spPr>
            <a:xfrm>
              <a:off x="3059280" y="2924280"/>
              <a:ext cx="136836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(citoso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9"/>
            <p:cNvGrpSpPr/>
            <p:nvPr/>
          </p:nvGrpSpPr>
          <p:grpSpPr>
            <a:xfrm>
              <a:off x="2771640" y="3571920"/>
              <a:ext cx="1657440" cy="968760"/>
              <a:chOff x="2771640" y="3571920"/>
              <a:chExt cx="1657440" cy="968760"/>
            </a:xfrm>
          </p:grpSpPr>
          <p:sp>
            <p:nvSpPr>
              <p:cNvPr id="345" name="Text Box 30"/>
              <p:cNvSpPr/>
              <p:nvPr/>
            </p:nvSpPr>
            <p:spPr>
              <a:xfrm>
                <a:off x="2771640" y="3860640"/>
                <a:ext cx="165744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Acetil-Co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+ H</a:t>
                </a:r>
                <a:r>
                  <a:rPr b="1" lang="es-ES" sz="1800" spc="-1" strike="noStrike" baseline="-25000">
                    <a:solidFill>
                      <a:srgbClr val="c0504d"/>
                    </a:solidFill>
                    <a:latin typeface="Calibri"/>
                  </a:rPr>
                  <a:t>2</a:t>
                </a: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1"/>
              <p:cNvSpPr/>
              <p:nvPr/>
            </p:nvSpPr>
            <p:spPr>
              <a:xfrm flipV="1">
                <a:off x="2857680" y="3571920"/>
                <a:ext cx="35712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917760" y="5143680"/>
            <a:ext cx="17488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Enzima regulad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36 Conector angular"/>
          <p:cNvCxnSpPr/>
          <p:nvPr/>
        </p:nvCxnSpPr>
        <p:spPr>
          <a:xfrm flipH="1" rot="16200000">
            <a:off x="7502760" y="4854240"/>
            <a:ext cx="358200" cy="221400"/>
          </a:xfrm>
          <a:prstGeom prst="bentConnector3">
            <a:avLst>
              <a:gd name="adj1" fmla="val -50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51" name="35 Rectángulo redondeado"/>
          <p:cNvSpPr/>
          <p:nvPr/>
        </p:nvSpPr>
        <p:spPr>
          <a:xfrm>
            <a:off x="6643800" y="6215040"/>
            <a:ext cx="242892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37 Rectángulo redondeado"/>
          <p:cNvSpPr/>
          <p:nvPr/>
        </p:nvSpPr>
        <p:spPr>
          <a:xfrm>
            <a:off x="6500880" y="3857760"/>
            <a:ext cx="221436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34 CuadroTexto"/>
          <p:cNvSpPr/>
          <p:nvPr/>
        </p:nvSpPr>
        <p:spPr>
          <a:xfrm>
            <a:off x="1449000" y="6377040"/>
            <a:ext cx="321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41 Conector recto de flecha"/>
          <p:cNvCxnSpPr/>
          <p:nvPr/>
        </p:nvCxnSpPr>
        <p:spPr>
          <a:xfrm flipH="1">
            <a:off x="5142960" y="6571080"/>
            <a:ext cx="1286280" cy="1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5" name="45 Conector recto de flecha"/>
          <p:cNvCxnSpPr/>
          <p:nvPr/>
        </p:nvCxnSpPr>
        <p:spPr>
          <a:xfrm flipH="1" flipV="1">
            <a:off x="5500080" y="6571440"/>
            <a:ext cx="57204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6" name="47 Conector recto de flecha"/>
          <p:cNvCxnSpPr/>
          <p:nvPr/>
        </p:nvCxnSpPr>
        <p:spPr>
          <a:xfrm flipH="1" flipV="1">
            <a:off x="5857200" y="6571440"/>
            <a:ext cx="50076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7" name="49 CuadroTexto"/>
          <p:cNvSpPr/>
          <p:nvPr/>
        </p:nvSpPr>
        <p:spPr>
          <a:xfrm>
            <a:off x="357120" y="857160"/>
            <a:ext cx="5500800" cy="45972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Acetatos        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                I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50 Conector recto de flecha"/>
          <p:cNvCxnSpPr/>
          <p:nvPr/>
        </p:nvCxnSpPr>
        <p:spPr>
          <a:xfrm>
            <a:off x="3214440" y="1071720"/>
            <a:ext cx="9291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9" name="42 Rectángulo redondeado"/>
          <p:cNvSpPr/>
          <p:nvPr/>
        </p:nvSpPr>
        <p:spPr>
          <a:xfrm>
            <a:off x="1214280" y="6286680"/>
            <a:ext cx="3214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357120" y="189000"/>
            <a:ext cx="5583240" cy="6459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6300720" y="2060640"/>
            <a:ext cx="2590920" cy="2157120"/>
          </a:xfrm>
          <a:prstGeom prst="rect">
            <a:avLst/>
          </a:prstGeom>
          <a:solidFill>
            <a:srgbClr val="f6faa4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Isopentenil-PP (I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 Rectángulo redondeado"/>
          <p:cNvSpPr/>
          <p:nvPr/>
        </p:nvSpPr>
        <p:spPr>
          <a:xfrm>
            <a:off x="2214720" y="6072120"/>
            <a:ext cx="171432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1 CuadroTexto"/>
          <p:cNvSpPr/>
          <p:nvPr/>
        </p:nvSpPr>
        <p:spPr>
          <a:xfrm>
            <a:off x="428760" y="0"/>
            <a:ext cx="8429400" cy="60678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Isomerización del IPP para d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Dimetilalil-pirofosfato (5C)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isom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IPP (5C) y el Dimetilalilpirofosfato (5C) se condensan para formar el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Geran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0C)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condensa una segunda molécula de IPP con el geranil-pirofosfato para form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Farnes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5C)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escualeno sintet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taliza la condensación de dos moléculas de Farnesil-pirofosfato, formando la molécula de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ESCUALENO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 C)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 Título"/>
          <p:cNvSpPr/>
          <p:nvPr/>
        </p:nvSpPr>
        <p:spPr>
          <a:xfrm>
            <a:off x="2357280" y="-71280"/>
            <a:ext cx="657252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2 CuadroTexto"/>
          <p:cNvSpPr/>
          <p:nvPr/>
        </p:nvSpPr>
        <p:spPr>
          <a:xfrm>
            <a:off x="214200" y="1000080"/>
            <a:ext cx="8572680" cy="4483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8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iclación de Escualeno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LANO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C) mediante la </a:t>
            </a:r>
            <a:r>
              <a:rPr b="1" i="1" lang="es-AR" sz="2400" spc="-1" strike="noStrike">
                <a:solidFill>
                  <a:srgbClr val="000000"/>
                </a:solidFill>
                <a:latin typeface="Calibri"/>
              </a:rPr>
              <a:t>escualeno monooxi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9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nversión de Lanosterol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COLE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27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I: Escualeno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              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3 Conector recto de flecha"/>
          <p:cNvCxnSpPr/>
          <p:nvPr/>
        </p:nvCxnSpPr>
        <p:spPr>
          <a:xfrm>
            <a:off x="3000240" y="457200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4282920" cy="4357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072040" y="0"/>
            <a:ext cx="3784680" cy="6711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1357200" y="5270400"/>
            <a:ext cx="1714680" cy="730440"/>
          </a:xfrm>
          <a:prstGeom prst="rect">
            <a:avLst/>
          </a:prstGeom>
          <a:ln w="0">
            <a:noFill/>
          </a:ln>
        </p:spPr>
      </p:pic>
      <p:sp>
        <p:nvSpPr>
          <p:cNvPr id="370" name="4 Rectángulo redondeado"/>
          <p:cNvSpPr/>
          <p:nvPr/>
        </p:nvSpPr>
        <p:spPr>
          <a:xfrm>
            <a:off x="7215120" y="6429240"/>
            <a:ext cx="185760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5 Rectángulo redondeado"/>
          <p:cNvSpPr/>
          <p:nvPr/>
        </p:nvSpPr>
        <p:spPr>
          <a:xfrm>
            <a:off x="2143080" y="1857240"/>
            <a:ext cx="14288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6 Rectángulo redondeado"/>
          <p:cNvSpPr/>
          <p:nvPr/>
        </p:nvSpPr>
        <p:spPr>
          <a:xfrm>
            <a:off x="7572240" y="4143240"/>
            <a:ext cx="128592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37 CuadroTexto"/>
          <p:cNvSpPr/>
          <p:nvPr/>
        </p:nvSpPr>
        <p:spPr>
          <a:xfrm>
            <a:off x="1488960" y="214200"/>
            <a:ext cx="58284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8 Conector recto de flecha"/>
          <p:cNvCxnSpPr/>
          <p:nvPr/>
        </p:nvCxnSpPr>
        <p:spPr>
          <a:xfrm>
            <a:off x="787320" y="428760"/>
            <a:ext cx="7135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5" name="9 Conector recto de flecha"/>
          <p:cNvCxnSpPr/>
          <p:nvPr/>
        </p:nvCxnSpPr>
        <p:spPr>
          <a:xfrm flipH="1">
            <a:off x="1785600" y="57132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6" name="13 Conector recto de flecha"/>
          <p:cNvCxnSpPr/>
          <p:nvPr/>
        </p:nvCxnSpPr>
        <p:spPr>
          <a:xfrm>
            <a:off x="713880" y="428760"/>
            <a:ext cx="50076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7" name="34 CuadroTexto"/>
          <p:cNvSpPr/>
          <p:nvPr/>
        </p:nvSpPr>
        <p:spPr>
          <a:xfrm>
            <a:off x="142920" y="263520"/>
            <a:ext cx="57132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2790720" y="5616720"/>
            <a:ext cx="22809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Ciclación del Escuale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erre de los anillos 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rmar el núc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eroideo condensa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l C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2743200" cy="516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3643200" y="1928880"/>
            <a:ext cx="50007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Triglicéridos -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Rectángulo"/>
          <p:cNvSpPr/>
          <p:nvPr/>
        </p:nvSpPr>
        <p:spPr>
          <a:xfrm>
            <a:off x="2643120" y="278604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79280" y="404640"/>
            <a:ext cx="43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clación del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escua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8000" y="1852560"/>
            <a:ext cx="37432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1801bf"/>
                </a:solidFill>
                <a:latin typeface="Arial"/>
              </a:rPr>
              <a:t>ESCUALE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e cicla para formar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OLESTERO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serie de etapas que involucran otros </a:t>
            </a:r>
            <a:r>
              <a:rPr b="1" lang="es-ES" sz="2000" spc="-1" strike="noStrike">
                <a:solidFill>
                  <a:srgbClr val="00ffff"/>
                </a:solidFill>
                <a:latin typeface="Arial"/>
              </a:rPr>
              <a:t>estero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mo intermedi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Las reacciones se producen en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 lis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los productos intermediarios permanecen unidos a una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prot. transportadora de estero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4bc30"/>
                </a:solidFill>
                <a:latin typeface="Arial"/>
              </a:rPr>
              <a:t>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intetizan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3"/>
          <p:cNvGrpSpPr/>
          <p:nvPr/>
        </p:nvGrpSpPr>
        <p:grpSpPr>
          <a:xfrm>
            <a:off x="3894120" y="428760"/>
            <a:ext cx="5249880" cy="6200640"/>
            <a:chOff x="3894120" y="428760"/>
            <a:chExt cx="5249880" cy="6200640"/>
          </a:xfrm>
        </p:grpSpPr>
        <p:pic>
          <p:nvPicPr>
            <p:cNvPr id="382" name="Picture 7" descr=""/>
            <p:cNvPicPr/>
            <p:nvPr/>
          </p:nvPicPr>
          <p:blipFill>
            <a:blip r:embed="rId1"/>
            <a:stretch/>
          </p:blipFill>
          <p:spPr>
            <a:xfrm>
              <a:off x="3894120" y="428760"/>
              <a:ext cx="5249880" cy="62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5 CuadroTexto"/>
            <p:cNvSpPr/>
            <p:nvPr/>
          </p:nvSpPr>
          <p:spPr>
            <a:xfrm>
              <a:off x="7286040" y="2808360"/>
              <a:ext cx="710280" cy="4287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Hong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6 CuadroTexto"/>
            <p:cNvSpPr/>
            <p:nvPr/>
          </p:nvSpPr>
          <p:spPr>
            <a:xfrm>
              <a:off x="4744800" y="2786040"/>
              <a:ext cx="827280" cy="428760"/>
            </a:xfrm>
            <a:prstGeom prst="rect">
              <a:avLst/>
            </a:prstGeom>
            <a:solidFill>
              <a:srgbClr val="04b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Plant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9"/>
            <p:cNvSpPr/>
            <p:nvPr/>
          </p:nvSpPr>
          <p:spPr>
            <a:xfrm>
              <a:off x="5032080" y="1452600"/>
              <a:ext cx="1418040" cy="4870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Escual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monoxi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6521400" y="3054600"/>
              <a:ext cx="537120" cy="182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ff"/>
                  </a:solidFill>
                  <a:latin typeface="Arial"/>
                </a:rPr>
                <a:t>Cic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6 CuadroTexto"/>
            <p:cNvSpPr/>
            <p:nvPr/>
          </p:nvSpPr>
          <p:spPr>
            <a:xfrm>
              <a:off x="5679720" y="3021120"/>
              <a:ext cx="755640" cy="2613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Anim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5927760" y="4173480"/>
              <a:ext cx="537120" cy="182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ff"/>
                  </a:solidFill>
                  <a:latin typeface="Arial"/>
                </a:rPr>
                <a:t>Cic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14"/>
          <p:cNvSpPr/>
          <p:nvPr/>
        </p:nvSpPr>
        <p:spPr>
          <a:xfrm>
            <a:off x="5572080" y="2060640"/>
            <a:ext cx="14479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416560" y="5805360"/>
            <a:ext cx="194148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3 CuadroTexto"/>
          <p:cNvSpPr/>
          <p:nvPr/>
        </p:nvSpPr>
        <p:spPr>
          <a:xfrm>
            <a:off x="3935160" y="4143240"/>
            <a:ext cx="1076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stigma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4 CuadroTexto"/>
          <p:cNvSpPr/>
          <p:nvPr/>
        </p:nvSpPr>
        <p:spPr>
          <a:xfrm>
            <a:off x="7844400" y="4071960"/>
            <a:ext cx="86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rgo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5 CuadroTexto"/>
          <p:cNvSpPr/>
          <p:nvPr/>
        </p:nvSpPr>
        <p:spPr>
          <a:xfrm>
            <a:off x="6363720" y="6429240"/>
            <a:ext cx="95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Colesterol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6 CuadroTexto"/>
          <p:cNvSpPr/>
          <p:nvPr/>
        </p:nvSpPr>
        <p:spPr>
          <a:xfrm>
            <a:off x="6541560" y="5000760"/>
            <a:ext cx="883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7 CuadroTexto"/>
          <p:cNvSpPr/>
          <p:nvPr/>
        </p:nvSpPr>
        <p:spPr>
          <a:xfrm>
            <a:off x="6719400" y="928800"/>
            <a:ext cx="84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l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949320" y="1571760"/>
            <a:ext cx="5654520" cy="528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CuadroTexto"/>
          <p:cNvSpPr/>
          <p:nvPr/>
        </p:nvSpPr>
        <p:spPr>
          <a:xfrm>
            <a:off x="6429240" y="628668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 CuadroTexto"/>
          <p:cNvSpPr/>
          <p:nvPr/>
        </p:nvSpPr>
        <p:spPr>
          <a:xfrm>
            <a:off x="5655240" y="5857920"/>
            <a:ext cx="33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X:  metabolitos del Colesterol, sin identif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6384600" cy="6605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0880" y="-360"/>
            <a:ext cx="2643120" cy="178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Regulación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 la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 Biosíntesis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 Colestero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intracelular</a:t>
            </a:r>
            <a:br>
              <a:rPr sz="2900"/>
            </a:br>
            <a:r>
              <a:rPr b="1" lang="es-ES" sz="2900" spc="-1" strike="noStrike">
                <a:solidFill>
                  <a:srgbClr val="200ffd"/>
                </a:solidFill>
                <a:latin typeface="Arial"/>
                <a:ea typeface="Arial"/>
              </a:rPr>
              <a:t>en células y tejid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404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406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0 Elipse"/>
          <p:cNvSpPr/>
          <p:nvPr/>
        </p:nvSpPr>
        <p:spPr>
          <a:xfrm>
            <a:off x="2357280" y="5500800"/>
            <a:ext cx="78588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1 Elipse"/>
          <p:cNvSpPr/>
          <p:nvPr/>
        </p:nvSpPr>
        <p:spPr>
          <a:xfrm>
            <a:off x="4500720" y="3571920"/>
            <a:ext cx="78552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415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ángulo 4"/>
          <p:cNvSpPr/>
          <p:nvPr/>
        </p:nvSpPr>
        <p:spPr>
          <a:xfrm>
            <a:off x="900000" y="26028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c00000"/>
                </a:solidFill>
                <a:latin typeface="Arial"/>
              </a:rPr>
              <a:t>Esterificación del colesterol </a:t>
            </a:r>
            <a:br>
              <a:rPr sz="3100"/>
            </a:br>
            <a:r>
              <a:rPr b="1" lang="es-ES" sz="2800" spc="-1" strike="noStrike">
                <a:solidFill>
                  <a:srgbClr val="200ffd"/>
                </a:solidFill>
                <a:latin typeface="Arial"/>
              </a:rPr>
              <a:t>en las Lipoproteínas (H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0 Elipse"/>
          <p:cNvSpPr/>
          <p:nvPr/>
        </p:nvSpPr>
        <p:spPr>
          <a:xfrm>
            <a:off x="1357200" y="500076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11 Elipse"/>
          <p:cNvSpPr/>
          <p:nvPr/>
        </p:nvSpPr>
        <p:spPr>
          <a:xfrm>
            <a:off x="4500720" y="2643120"/>
            <a:ext cx="57132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-103320" y="826920"/>
            <a:ext cx="9176040" cy="5673960"/>
          </a:xfrm>
          <a:prstGeom prst="rect">
            <a:avLst/>
          </a:prstGeom>
          <a:ln w="0">
            <a:noFill/>
          </a:ln>
        </p:spPr>
      </p:pic>
      <p:sp>
        <p:nvSpPr>
          <p:cNvPr id="424" name="2 CuadroTexto"/>
          <p:cNvSpPr/>
          <p:nvPr/>
        </p:nvSpPr>
        <p:spPr>
          <a:xfrm>
            <a:off x="0" y="0"/>
            <a:ext cx="9144000" cy="763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calización subcelular del metabolismo lip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aración entre las células de animales vertebrados, levaduras y células vege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síntesis de ácidos grasos ocurre en el compartimento donde la relación [NADPH] / [NADP+] es al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3 CuadroTexto"/>
          <p:cNvSpPr/>
          <p:nvPr/>
        </p:nvSpPr>
        <p:spPr>
          <a:xfrm>
            <a:off x="3286080" y="658188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 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hosphatidicacidsynthesis-sp"/>
          <p:cNvPicPr/>
          <p:nvPr/>
        </p:nvPicPr>
        <p:blipFill>
          <a:blip r:embed="rId1"/>
          <a:stretch/>
        </p:blipFill>
        <p:spPr>
          <a:xfrm>
            <a:off x="2376360" y="620640"/>
            <a:ext cx="4300560" cy="59770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4"/>
          <p:cNvGrpSpPr/>
          <p:nvPr/>
        </p:nvGrpSpPr>
        <p:grpSpPr>
          <a:xfrm>
            <a:off x="4681440" y="5222880"/>
            <a:ext cx="3117960" cy="944640"/>
            <a:chOff x="4681440" y="5222880"/>
            <a:chExt cx="3117960" cy="944640"/>
          </a:xfrm>
        </p:grpSpPr>
        <p:sp>
          <p:nvSpPr>
            <p:cNvPr id="69" name="Line 5"/>
            <p:cNvSpPr/>
            <p:nvPr/>
          </p:nvSpPr>
          <p:spPr>
            <a:xfrm flipV="1">
              <a:off x="4681440" y="5444640"/>
              <a:ext cx="1224000" cy="289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4753080" y="5878440"/>
              <a:ext cx="1152360" cy="7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5906520" y="522288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Tri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5914800" y="5799240"/>
              <a:ext cx="18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cc33"/>
                  </a:solidFill>
                  <a:latin typeface="Arial"/>
                </a:rPr>
                <a:t>Fosfo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0"/>
          <p:cNvSpPr/>
          <p:nvPr/>
        </p:nvSpPr>
        <p:spPr>
          <a:xfrm>
            <a:off x="4291920" y="0"/>
            <a:ext cx="48258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Biosíntesis de triglicér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racción microsomal del 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221040" y="571680"/>
            <a:ext cx="3198600" cy="684360"/>
            <a:chOff x="221040" y="571680"/>
            <a:chExt cx="3198600" cy="684360"/>
          </a:xfrm>
        </p:grpSpPr>
        <p:sp>
          <p:nvSpPr>
            <p:cNvPr id="75" name="Text Box 11"/>
            <p:cNvSpPr/>
            <p:nvPr/>
          </p:nvSpPr>
          <p:spPr>
            <a:xfrm>
              <a:off x="221040" y="85716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1762200" y="105264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1933920" y="571680"/>
              <a:ext cx="11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cc3300"/>
                  </a:solidFill>
                  <a:latin typeface="Arial"/>
                </a:rPr>
                <a:t>Vía Gli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1"/>
          <p:cNvGrpSpPr/>
          <p:nvPr/>
        </p:nvGrpSpPr>
        <p:grpSpPr>
          <a:xfrm>
            <a:off x="611640" y="2357280"/>
            <a:ext cx="3078720" cy="761400"/>
            <a:chOff x="611640" y="2357280"/>
            <a:chExt cx="3078720" cy="761400"/>
          </a:xfrm>
        </p:grpSpPr>
        <p:sp>
          <p:nvSpPr>
            <p:cNvPr id="79" name="Text Box 14"/>
            <p:cNvSpPr/>
            <p:nvPr/>
          </p:nvSpPr>
          <p:spPr>
            <a:xfrm>
              <a:off x="611640" y="2514600"/>
              <a:ext cx="14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>
              <a:off x="2124000" y="270828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2013120" y="2357280"/>
              <a:ext cx="16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cc3300"/>
                  </a:solidFill>
                  <a:latin typeface="Arial"/>
                </a:rPr>
                <a:t>Glicer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2125440" y="27813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2844360" y="27813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19"/>
            <p:cNvSpPr/>
            <p:nvPr/>
          </p:nvSpPr>
          <p:spPr>
            <a:xfrm>
              <a:off x="2333520" y="2709720"/>
              <a:ext cx="870120" cy="24768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2"/>
          <p:cNvSpPr/>
          <p:nvPr/>
        </p:nvSpPr>
        <p:spPr>
          <a:xfrm>
            <a:off x="354240" y="12142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ej. adipo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úscu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672480" y="285264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híg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ñ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sti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. mam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5"/>
          <p:cNvSpPr/>
          <p:nvPr/>
        </p:nvSpPr>
        <p:spPr>
          <a:xfrm>
            <a:off x="2843280" y="5373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2 Elipse"/>
          <p:cNvSpPr/>
          <p:nvPr/>
        </p:nvSpPr>
        <p:spPr>
          <a:xfrm>
            <a:off x="3071880" y="2071800"/>
            <a:ext cx="1500120" cy="13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3 Rectángulo"/>
          <p:cNvSpPr/>
          <p:nvPr/>
        </p:nvSpPr>
        <p:spPr>
          <a:xfrm>
            <a:off x="4786200" y="857160"/>
            <a:ext cx="22147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5 CuadroTexto"/>
          <p:cNvSpPr/>
          <p:nvPr/>
        </p:nvSpPr>
        <p:spPr>
          <a:xfrm>
            <a:off x="4765680" y="185724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Activación de Glicerol a Glicerol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Activación de AG a Acil-CoA  (</a:t>
            </a: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tioquinas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3638520" y="401760"/>
            <a:ext cx="4790880" cy="6128640"/>
            <a:chOff x="3638520" y="401760"/>
            <a:chExt cx="4790880" cy="612864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tretch/>
          </p:blipFill>
          <p:spPr>
            <a:xfrm>
              <a:off x="4143240" y="401760"/>
              <a:ext cx="4173480" cy="60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5"/>
            <p:cNvSpPr/>
            <p:nvPr/>
          </p:nvSpPr>
          <p:spPr>
            <a:xfrm>
              <a:off x="4381560" y="2066760"/>
              <a:ext cx="127800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Ac. Fosfatid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fosfa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3638520" y="4365720"/>
              <a:ext cx="133020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Ac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6429240" y="2214720"/>
              <a:ext cx="172728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Unión del grupo de cabeza pola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rina, colina, etanolamina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4213080" y="6286680"/>
              <a:ext cx="21448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TRIACILGLICÉR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6302160" y="4714920"/>
              <a:ext cx="21272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FOSFOLÍP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1"/>
          <p:cNvSpPr/>
          <p:nvPr/>
        </p:nvSpPr>
        <p:spPr>
          <a:xfrm>
            <a:off x="370800" y="3571920"/>
            <a:ext cx="3047400" cy="2226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Bio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RE l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5"/>
          <p:cNvSpPr/>
          <p:nvPr/>
        </p:nvSpPr>
        <p:spPr>
          <a:xfrm>
            <a:off x="4929120" y="500040"/>
            <a:ext cx="2714760" cy="1643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1 Rectángulo redondeado"/>
          <p:cNvSpPr/>
          <p:nvPr/>
        </p:nvSpPr>
        <p:spPr>
          <a:xfrm>
            <a:off x="3929040" y="6286680"/>
            <a:ext cx="2571840" cy="35712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94640" y="5143680"/>
            <a:ext cx="1976040" cy="1526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Biosíntesi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Glic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verteb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3 Rectángulo redondeado"/>
          <p:cNvSpPr/>
          <p:nvPr/>
        </p:nvSpPr>
        <p:spPr>
          <a:xfrm>
            <a:off x="6500880" y="4714920"/>
            <a:ext cx="178596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5414760" cy="47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445000" y="1143000"/>
            <a:ext cx="338112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gulación horm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la sínte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5500800" y="5786280"/>
            <a:ext cx="25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cachalote%252B%5B1%5D"/>
          <p:cNvPicPr/>
          <p:nvPr/>
        </p:nvPicPr>
        <p:blipFill>
          <a:blip r:embed="rId1"/>
          <a:stretch/>
        </p:blipFill>
        <p:spPr>
          <a:xfrm>
            <a:off x="419040" y="500040"/>
            <a:ext cx="4795920" cy="2292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5ubicacionespermaceti"/>
          <p:cNvPicPr/>
          <p:nvPr/>
        </p:nvPicPr>
        <p:blipFill>
          <a:blip r:embed="rId2"/>
          <a:stretch/>
        </p:blipFill>
        <p:spPr>
          <a:xfrm>
            <a:off x="1143000" y="3571920"/>
            <a:ext cx="489600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5 CuadroTexto"/>
          <p:cNvSpPr/>
          <p:nvPr/>
        </p:nvSpPr>
        <p:spPr>
          <a:xfrm>
            <a:off x="4517640" y="2071800"/>
            <a:ext cx="4536360" cy="1221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Órgano espermaceti en el cacha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íntesis y reserva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acilglicér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ventaja adaptativa  (flotabil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 CuadroTexto"/>
          <p:cNvSpPr/>
          <p:nvPr/>
        </p:nvSpPr>
        <p:spPr>
          <a:xfrm>
            <a:off x="3676680" y="1429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1801bf"/>
                </a:solidFill>
                <a:latin typeface="Comic Sans MS"/>
              </a:rPr>
              <a:t>Otras funciones de las reservas grasas (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6760" y="461520"/>
            <a:ext cx="8458200" cy="1538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animales que hibern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iacilglicér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única fuente de energía durante la hibern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box 17-04 figure 1"/>
          <p:cNvPicPr/>
          <p:nvPr/>
        </p:nvPicPr>
        <p:blipFill>
          <a:blip r:embed="rId1"/>
          <a:stretch/>
        </p:blipFill>
        <p:spPr>
          <a:xfrm>
            <a:off x="5929200" y="4430880"/>
            <a:ext cx="2421000" cy="221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t1.gstatic.com/images?q=tbn:ANd9GcT-g5c5JfEAYx2dtshNfWcmYgfelzlSD1her2ycwmHfBUltceYjHA"/>
          <p:cNvPicPr/>
          <p:nvPr/>
        </p:nvPicPr>
        <p:blipFill>
          <a:blip r:embed="rId2"/>
          <a:stretch/>
        </p:blipFill>
        <p:spPr>
          <a:xfrm>
            <a:off x="857160" y="4714920"/>
            <a:ext cx="245772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www.elporquedelascosas.com/wp-content/uploads/2008/07/oso.jpg"/>
          <p:cNvPicPr/>
          <p:nvPr/>
        </p:nvPicPr>
        <p:blipFill>
          <a:blip r:embed="rId3"/>
          <a:stretch/>
        </p:blipFill>
        <p:spPr>
          <a:xfrm>
            <a:off x="785880" y="2133720"/>
            <a:ext cx="371484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http://t0.gstatic.com/images?q=tbn:ANd9GcTWmzJY436iiE84paV2mQsXtkxIsGD8poKqIIfks8bmjqpuxphP"/>
          <p:cNvPicPr/>
          <p:nvPr/>
        </p:nvPicPr>
        <p:blipFill>
          <a:blip r:embed="rId4"/>
          <a:stretch/>
        </p:blipFill>
        <p:spPr>
          <a:xfrm>
            <a:off x="6143760" y="208116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8 CuadroTexto"/>
          <p:cNvSpPr/>
          <p:nvPr/>
        </p:nvSpPr>
        <p:spPr>
          <a:xfrm>
            <a:off x="1890720" y="1429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1801bf"/>
                </a:solidFill>
                <a:latin typeface="Comic Sans MS"/>
              </a:rPr>
              <a:t>Otras funciones de las reservas grasas (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0" name="42 Conector recto de flecha"/>
          <p:cNvCxnSpPr/>
          <p:nvPr/>
        </p:nvCxnSpPr>
        <p:spPr>
          <a:xfrm flipH="1">
            <a:off x="5785920" y="5571000"/>
            <a:ext cx="929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500880" y="3716280"/>
            <a:ext cx="23209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LIOXIS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214280" y="528624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14200" y="471492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929720" y="5786280"/>
            <a:ext cx="1015920" cy="6141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NADH FADH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918560" y="6357960"/>
            <a:ext cx="101124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6715080" y="578628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 flipH="1">
            <a:off x="1357200" y="4214880"/>
            <a:ext cx="433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2214720" y="4214880"/>
            <a:ext cx="285480" cy="9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de la movilización de </a:t>
            </a:r>
            <a:r>
              <a:rPr b="1" lang="es-ES_tradnl" sz="3200" spc="-1" strike="noStrike">
                <a:solidFill>
                  <a:srgbClr val="04bc30"/>
                </a:solidFill>
                <a:latin typeface="Calibri"/>
              </a:rPr>
              <a:t>Triglicéridos en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5857920" y="3571920"/>
            <a:ext cx="503280" cy="504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7 CuadroTexto"/>
          <p:cNvSpPr/>
          <p:nvPr/>
        </p:nvSpPr>
        <p:spPr>
          <a:xfrm>
            <a:off x="857160" y="2071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Calibri"/>
              </a:rPr>
              <a:t>OLEO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714680" y="6286680"/>
            <a:ext cx="1785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ACA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29 Conector recto de flecha"/>
          <p:cNvCxnSpPr/>
          <p:nvPr/>
        </p:nvCxnSpPr>
        <p:spPr>
          <a:xfrm flipH="1" flipV="1">
            <a:off x="5785920" y="5357160"/>
            <a:ext cx="875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32 Flecha abajo"/>
          <p:cNvSpPr/>
          <p:nvPr/>
        </p:nvSpPr>
        <p:spPr>
          <a:xfrm>
            <a:off x="6143760" y="4857840"/>
            <a:ext cx="285480" cy="5713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4 Cinta perforada"/>
          <p:cNvSpPr/>
          <p:nvPr/>
        </p:nvSpPr>
        <p:spPr>
          <a:xfrm>
            <a:off x="5643720" y="4572000"/>
            <a:ext cx="1357200" cy="428760"/>
          </a:xfrm>
          <a:prstGeom prst="flowChartPunchedTap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alibri"/>
              </a:rPr>
              <a:t>C.GLI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5 Flecha abajo"/>
          <p:cNvSpPr/>
          <p:nvPr/>
        </p:nvSpPr>
        <p:spPr>
          <a:xfrm>
            <a:off x="2571840" y="57150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7 CuadroTexto"/>
          <p:cNvSpPr/>
          <p:nvPr/>
        </p:nvSpPr>
        <p:spPr>
          <a:xfrm>
            <a:off x="4714920" y="521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39 Conector recto de flecha"/>
          <p:cNvCxnSpPr/>
          <p:nvPr/>
        </p:nvCxnSpPr>
        <p:spPr>
          <a:xfrm flipH="1" flipV="1">
            <a:off x="3857400" y="5428440"/>
            <a:ext cx="7862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47" name="43 CuadroTexto"/>
          <p:cNvSpPr/>
          <p:nvPr/>
        </p:nvSpPr>
        <p:spPr>
          <a:xfrm>
            <a:off x="4429080" y="6072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45 Conector recto de flecha"/>
          <p:cNvCxnSpPr/>
          <p:nvPr/>
        </p:nvCxnSpPr>
        <p:spPr>
          <a:xfrm>
            <a:off x="6143760" y="6286680"/>
            <a:ext cx="42912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49" name="30 Rectángulo redondeado"/>
          <p:cNvSpPr/>
          <p:nvPr/>
        </p:nvSpPr>
        <p:spPr>
          <a:xfrm>
            <a:off x="6143760" y="5643720"/>
            <a:ext cx="285732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21:56:58Z</dcterms:created>
  <dc:creator>ali y facu</dc:creator>
  <dc:description/>
  <dc:language>en-US</dc:language>
  <cp:lastModifiedBy>ali y facu</cp:lastModifiedBy>
  <dcterms:modified xsi:type="dcterms:W3CDTF">2018-05-24T20:30:11Z</dcterms:modified>
  <cp:revision>95</cp:revision>
  <dc:subject/>
  <dc:title>Diapositiva 1</dc:title>
</cp:coreProperties>
</file>